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13619"/>
        <c:axId val="98194108"/>
      </c:barChart>
      <c:catAx>
        <c:axId val="665136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94108"/>
        <c:crosses val="autoZero"/>
        <c:auto val="1"/>
        <c:lblAlgn val="ctr"/>
        <c:lblOffset val="100"/>
        <c:noMultiLvlLbl val="0"/>
      </c:catAx>
      <c:valAx>
        <c:axId val="981941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136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CFD7-8E81-47E4-BDCB-F4538A42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8C4-3B0D-4ACA-8C0C-EEF01618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F26-A006-4373-8B9A-BDE501F9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1E5-992D-4230-9419-CDA3165E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0461-D625-4BF7-95E3-7B1B8603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1BB2-36BE-491D-8AD7-33C219E3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53C-790E-49CB-96E2-8D70AA06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771-390A-4AA9-862F-6099627A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DC7A-C7D5-475F-9E6C-C73F2FA5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4E6-0E42-4CF6-BB42-185DFAAB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BC5-1DB3-492C-B122-1C4D4122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544-91F0-49EF-82BF-50091D2A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DCB1B-BA54-4E57-AA2B-498B98E265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