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20387"/>
        <c:axId val="77957188"/>
      </c:barChart>
      <c:catAx>
        <c:axId val="91920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7188"/>
        <c:crosses val="autoZero"/>
        <c:auto val="1"/>
        <c:lblAlgn val="ctr"/>
        <c:lblOffset val="100"/>
        <c:noMultiLvlLbl val="0"/>
      </c:catAx>
      <c:valAx>
        <c:axId val="77957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20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9DD-79AD-4094-8822-ECF06842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552-099C-4E1B-BCBD-808193D9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FD1-E98A-4682-8955-A0D97242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603-137A-41D1-9EC0-06FCA869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E6F-B310-4FAC-A45E-7416D17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CD5-4FCD-49C6-915D-B95C0F4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011-5580-41D1-A791-F457C41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A35-D67C-413E-9340-DF42F7B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02E-5EF0-40C6-9689-8B59085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70A-A1B7-4549-9904-1E99786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7D4-7540-454A-91AD-5AD1D36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711-B131-4B3F-9027-6F736ED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C9D7-7E1D-49BF-9C29-D26A0F860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