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43283"/>
        <c:axId val="39932181"/>
      </c:barChart>
      <c:catAx>
        <c:axId val="38143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32181"/>
        <c:crosses val="autoZero"/>
        <c:auto val="1"/>
        <c:lblAlgn val="ctr"/>
        <c:lblOffset val="100"/>
        <c:noMultiLvlLbl val="0"/>
      </c:catAx>
      <c:valAx>
        <c:axId val="39932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43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2C8-4B24-43CC-960D-6625C293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C15-B79E-4A1E-B646-3B9F10D3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98C-A66E-44DC-94CF-85EA65A2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813-607D-4E7B-A63D-DC6F99C8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CF4-CD90-4140-955A-19F766CF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F5D-C369-4CDE-B73D-CB098ED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2A9-97F5-45A3-8826-5ECA44CA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4CC-4A3D-4585-A18E-7448475A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C8C-CDF4-4FDC-8D4A-01EE19BB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4FF-F56B-4C37-945A-FCE9B2F0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99B-22C3-4194-957A-1BE1E116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404-557E-4E15-AA1F-866746F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7E750-9DB0-470B-AE6E-F372AB27A9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