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96796"/>
        <c:axId val="13344731"/>
      </c:barChart>
      <c:catAx>
        <c:axId val="73996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44731"/>
        <c:crosses val="autoZero"/>
        <c:auto val="1"/>
        <c:lblAlgn val="ctr"/>
        <c:lblOffset val="100"/>
        <c:noMultiLvlLbl val="0"/>
      </c:catAx>
      <c:valAx>
        <c:axId val="13344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96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33E-0033-49AD-BECE-93219567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14B-0013-4CAA-BA71-4C0E6E22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F45-21C4-4D3A-9360-90DFDF7F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CF3-7208-47A8-BDE0-4E265398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F66-1C39-4C03-8DAC-392C5ADE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1C2-EC16-42F5-8043-77E892B4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FDB-A8C7-46B5-8693-A1592851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B84-E797-48D7-B87C-F94EB8A6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F30-F380-4000-B1BA-BE6CEA2E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AE7-40B5-4A93-9ACE-4CF16056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A18-BBBB-4DF5-838D-3AD18FB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44A-609B-41E4-86CD-9BE5B7D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AC5C-677D-46BE-85A4-9B4D8D2015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