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95577"/>
        <c:axId val="45248008"/>
      </c:barChart>
      <c:catAx>
        <c:axId val="19395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48008"/>
        <c:crosses val="autoZero"/>
        <c:auto val="1"/>
        <c:lblAlgn val="ctr"/>
        <c:lblOffset val="100"/>
        <c:noMultiLvlLbl val="0"/>
      </c:catAx>
      <c:valAx>
        <c:axId val="45248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95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D63-12E6-4F97-873A-92AC51C6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64C-BF01-4019-AA51-8E3C2F0E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0A3-60FB-4CF7-8656-A2760565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D47-334C-4538-8FDE-2D6FF60C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7BE-B91E-438A-8546-6648319A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DA4-846B-460F-9613-8830CD4B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C89-D70A-4917-B0D5-B8329C2E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DF1-238A-4286-BC63-A2E7B7B8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90C-EEA7-4B9F-A71F-3F2AB85A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2F3-D01B-41FA-B608-31982EC2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812-987C-4881-9E84-5949A82E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FD5-E849-4010-B2B1-EA252B1C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E1171-085C-4B91-99B4-0D1C157254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