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38960"/>
        <c:axId val="85164056"/>
      </c:barChart>
      <c:catAx>
        <c:axId val="66038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64056"/>
        <c:crosses val="autoZero"/>
        <c:auto val="1"/>
        <c:lblAlgn val="ctr"/>
        <c:lblOffset val="100"/>
        <c:noMultiLvlLbl val="0"/>
      </c:catAx>
      <c:valAx>
        <c:axId val="85164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38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252-70F5-4227-AEC0-D0ACEAF4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F8C-38F8-41DF-BF3D-48F1898F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F33-CE56-4E81-8871-68155A69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F01-843D-469B-831C-EBD877CD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DE0-D32A-463B-A2D1-6C838F95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CA2-767E-49A6-9A09-4655E7D4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E3C-CD32-4831-BBA3-F86A5E3A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F89-A152-48D3-AC7E-D1718634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046-3B80-4F08-ADA3-6A491857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DA9-766D-4AFB-B7E5-A463727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461-4028-47C6-B45D-C8BC41D8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E12-DD2D-46C0-815F-6CDA2139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6C47C-E911-4B35-AE0C-877A094C4E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