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1180"/>
        <c:axId val="17939568"/>
      </c:barChart>
      <c:catAx>
        <c:axId val="2791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39568"/>
        <c:crosses val="autoZero"/>
        <c:auto val="1"/>
        <c:lblAlgn val="ctr"/>
        <c:lblOffset val="100"/>
        <c:noMultiLvlLbl val="0"/>
      </c:catAx>
      <c:valAx>
        <c:axId val="17939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1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DDF-346F-462B-8057-8B16748E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17D-6DDC-4E64-9C04-C542EE90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83A-4CBD-4E24-A0D9-365CF7BD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F98-6513-4276-91C0-5E66BB90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122-E7E2-4D68-9958-383E2481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1B10-3E3E-4305-806A-136F4BDA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AAA-8887-4F51-9A1C-E94E1C69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A67-152F-43DD-85E3-53A83E64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03F-502C-46D6-B682-7BAB1E30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FDD-9E34-48CA-9382-996D2BC1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EE5-5E1A-498F-A25F-50B1A02A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294-0335-44BE-8273-231D27B2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71DBE-4EE2-4060-BDDB-4A6A051461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