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98578"/>
        <c:axId val="68791051"/>
      </c:barChart>
      <c:catAx>
        <c:axId val="46898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91051"/>
        <c:crosses val="autoZero"/>
        <c:auto val="1"/>
        <c:lblAlgn val="ctr"/>
        <c:lblOffset val="100"/>
        <c:noMultiLvlLbl val="0"/>
      </c:catAx>
      <c:valAx>
        <c:axId val="68791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8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1F9-DDFF-42D6-BB0A-D1416796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929-2A0E-45C5-85DB-C324D90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C32-12CF-4755-B48B-C6FBBF93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F56-11EB-4EBD-9806-B033346F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3FB-466E-4F47-8432-6CE8190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6E3-FACF-4980-9760-E3CEA6BE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ED6-51EA-43B5-B234-EC102E6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F91-2845-4628-B112-339F7F0D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D72-B426-48BD-8351-E6554CA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59F-8AB0-4E17-8F01-CE6E1BF3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3DC-8CBE-4296-BC77-5566FE8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03E-C154-4460-99F1-75BB383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B71D7-3F52-4B98-8C41-450D541D0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