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268091"/>
        <c:axId val="24372438"/>
      </c:barChart>
      <c:catAx>
        <c:axId val="642680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372438"/>
        <c:crosses val="autoZero"/>
        <c:auto val="1"/>
        <c:lblAlgn val="ctr"/>
        <c:lblOffset val="100"/>
        <c:noMultiLvlLbl val="0"/>
      </c:catAx>
      <c:valAx>
        <c:axId val="243724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2680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80C7-D392-4139-AE32-002864F5D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B390-80B2-4709-86AF-81861A4AA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4854-3F7F-4E45-BA94-8874C3814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E131-97D8-4124-B859-66EF2B1B9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675A-9445-44F5-BD39-2AB72161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1ABC-71E5-487D-94B9-6C91C69B8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07AC-8469-4DDF-97E8-9147B9D3E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78B8-AA5B-4872-B1D8-4E0A66059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89EE-F303-4D4B-8455-54DA06F2A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D1E0-1F54-4931-B492-8BC15CE5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E442-37EA-4BBD-8C4F-0F41C8B1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B604-D564-481B-B660-16E58E52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83BDC3-A201-476D-95C1-6F2269017E7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