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296376"/>
        <c:axId val="89256211"/>
      </c:barChart>
      <c:catAx>
        <c:axId val="862963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256211"/>
        <c:crosses val="autoZero"/>
        <c:auto val="1"/>
        <c:lblAlgn val="ctr"/>
        <c:lblOffset val="100"/>
        <c:noMultiLvlLbl val="0"/>
      </c:catAx>
      <c:valAx>
        <c:axId val="892562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2963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CC39-7828-426C-BD92-4B0874C71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D0AD-B30B-40F1-938F-66AD24F9B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5FAD-F461-4841-9980-E926D8852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0E12-A4E7-4AE3-A1AF-51ECAAED9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D9A6-A555-4134-85C4-6589546D7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4229-FD20-405D-B74E-4902FC16E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9DD1-BF66-44B1-907A-ACFCFA8E8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F032-F197-49E7-8FDC-4270A49CF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4A88-AC0A-4DF7-BF0B-2AE1CD8CE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1B2A-F2EB-4FFD-AD3B-D6F791F63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9B73-BC9B-4CDD-BA72-DC4DF8C3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1C56-A941-4BD4-9008-86318C212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D5A4F8-5429-4BB2-8080-8D0BAA0DF7E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