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637150"/>
        <c:axId val="59165809"/>
      </c:barChart>
      <c:catAx>
        <c:axId val="276371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65809"/>
        <c:crosses val="autoZero"/>
        <c:auto val="1"/>
        <c:lblAlgn val="ctr"/>
        <c:lblOffset val="100"/>
        <c:noMultiLvlLbl val="0"/>
      </c:catAx>
      <c:valAx>
        <c:axId val="591658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371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578A-8E7B-4D48-8473-F2087B35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22D2-C8E5-46AF-A10F-50671A4E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2269-4BC3-4A2E-8504-85C4DFDE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BADB-9500-4F59-97F5-28166ABF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5C79-8D7C-4254-B379-74E4AE23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B7D1-1195-41B6-854E-A2FD77F0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8B2A-AB40-4855-AC3C-6273AF1F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1D03-91B7-46F8-A3FF-0EE3A845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7EBF-F08D-4BCC-ACC6-FC960230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7D66-856A-41BB-B619-79685AE8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E663-652F-4F59-84EE-C9A376F0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D251-F917-4B93-BC38-3DCF4BB8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1EDCC-4320-429A-8996-4A5CAE2B62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