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73521"/>
        <c:axId val="80074922"/>
      </c:barChart>
      <c:catAx>
        <c:axId val="209735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74922"/>
        <c:crosses val="autoZero"/>
        <c:auto val="1"/>
        <c:lblAlgn val="ctr"/>
        <c:lblOffset val="100"/>
        <c:noMultiLvlLbl val="0"/>
      </c:catAx>
      <c:valAx>
        <c:axId val="80074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735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501-C67E-422C-82D5-07B45C7C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888-95C5-4CA4-BB5D-178EB5B8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FDC-9DB5-4992-A598-2012142D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89A-F5EB-407C-8D1F-90E7A4E2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B81E-5440-49ED-B207-D18989CE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7E8D-F02C-48B1-BE61-62526F0A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7772-5082-4150-B3E7-BBEBE7F1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55C-1900-416C-89AC-4EA03936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2E2F-7909-41F2-B037-4DDA98F8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7E19-21FE-4814-9357-3C4F5987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ED79-2AB9-4F9A-B707-DCEF07B6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E35-BD7E-4EF8-8A26-AE0EE252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3F13D-BF99-4BC6-8372-4992B3EB6E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